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66A7-8344-4290-B6DD-96D56D387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48A1-6BB8-40FD-91B4-3312D4B1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C4E-CE90-4B2F-A5D7-DC52C35F1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9C2F-90DA-48E5-9BDE-4E64A044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6208-8938-4A15-8A55-EBF0E133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2309-78EA-4631-90BA-91ADBF04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AA38-23D4-4045-9FA0-409D291A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3F0D-A713-4531-8E6F-F0898C56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4C3A-D88B-4B8F-B063-83CC81C1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5B64-FF06-4EC7-99CE-D0637A64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782F-6858-4B0F-98B3-3AE2CE05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F8C-DF44-4240-B534-B1C5D8DC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720B-E573-41D0-9F2D-FA6265D6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1040D-0D69-4CC8-B3DF-F351A365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B6CA-8F09-4EA9-BBF2-AB800B999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B80E-272D-4099-9EE6-D9DD75D3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A601-353C-473B-9304-27D5BB94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078D1-2E21-457C-B563-AC3218B3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C810F-A987-4DC4-92F2-52991C29D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55021-9168-4BBE-A7E1-069DA051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94554-268D-4707-BF5A-9F64333D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EAA3B-40AB-4A05-960F-213768F6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F033-84E8-483E-B51E-43F4CF23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E85B8-2B63-4D1B-A224-31EA2B28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80EF9-CD75-4B3F-9144-F2267B39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0F46D-0F50-49B1-A574-902CC300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11120-F5DC-473C-9DA4-DFB597E7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437B1-CB89-4B17-92E6-927D9851E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C4AEA-BC8B-452E-BD47-4FD904E5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D2F56-A4F4-4ED6-A4C9-0810CE0E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84FD1-8778-4282-B8F7-85C8A771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F9D5A-3FC1-4717-B738-F951827A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AABB7-BF5D-4ECA-8496-FBE12749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8FD-119B-4471-9EA8-13777E49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5CE70-82E2-42F0-824A-275A6218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F9C6C-FE2D-434E-9F07-A18419B6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ED41D-71D4-48DF-9F7B-D834933C4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1C0BD-4961-4BB2-B26C-63F7FB03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3FDB9-A4E5-40F1-9C50-5BE9CA59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EA2AA-BA94-4B7A-AD2B-2E55A0E8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FE73A-87CC-4206-8464-18077542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0A5D4-BE7B-4A0B-81C4-DC280695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46FAF-8D92-493D-A0EA-95D891E2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44551-629A-4BED-9201-D9CBE555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AD25-21C4-4B11-BFE7-B36358A6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6F014-46BC-4861-A53E-E6AB4987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DD914-4429-48F1-BC99-138C171E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27283-D93B-469C-B28E-78B0EB2B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9996E-BA96-45D8-80D6-B517848B7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6F799-30AF-4DC3-B0F6-020C0FD1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22456-CEC6-477E-B2AB-818D75F4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7D6B6-B0E3-4FF7-9157-AD9F155A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3EF4F-6865-4FAF-9D86-7D9B448D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181F2-E0BF-4117-8033-14810F2E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BCB2F-2002-4DE5-8E47-7397B6D17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508A-4AC4-48B6-9EA3-39E40C5B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CE15C-06F5-437D-98A3-E3A2F1A5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FE361-7504-491C-9818-3433421E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9986A-6AA2-4034-9582-D060E8AC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83CD8-84E8-471B-943A-4BFD63FE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773C9-7185-4CFB-B0AC-305AD37E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3CAE0-81EC-4526-B13E-1B0776FD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17033-3864-4C8D-96A6-D4F547EF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F48BB-FA14-4C20-BEAB-5029F12A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86166-7ACB-44AD-97AE-BD32D15B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2D168-AF4A-4A20-8C3E-8552877F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0FD9-B556-4768-9A96-BA4E17F4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6D1E7-75E8-43F0-83BD-895B318D4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5957C-25A0-4E0F-8E08-56E49C63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9C0C3-0254-4050-9279-6FDB99C6C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C7B9B-5622-46CB-AA11-66CFD773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B3485-6DA0-4B44-B247-3D68DFEE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ACF9D-22E5-452C-A94C-EFE878BD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D4AB9-08EF-4421-B42A-C7A959FC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2ED06-2BDA-483D-9776-D00CB2BB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305D9-2911-4C3B-AC24-BFD571B4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D7B2F-E647-411B-8A83-84062F7E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9766-7BC2-4F98-85C1-DDE965EE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CFA39-9A88-4851-ACBE-7C418E28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C4B33-A5BB-49FA-BF41-731E3E35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A7823-85CD-45A1-8335-57C2670F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C5B02-EFE2-4C23-9B9E-E26526D33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E6B93-F875-4383-AB03-D0675B5F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B93FC8-3797-4358-9E3F-B87316A61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8D620-1610-4C5B-B32C-88A5F05EF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226A8-0C27-4CBC-A445-F0D7BD86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76707-C6CE-4D37-9EE5-1FFD7268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D872C-D33D-4A40-B337-7C4D7F45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C82-7A92-4C2C-A746-6AF9C8B1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1D34B8-D4FD-4181-971C-FBC9FA33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113C9-4F87-4377-B79B-135B652A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4B160-640C-4836-B90C-CBAC6838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F3DEF-C391-4B9C-ABCE-6050E362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70B75E-5A2C-4FF1-AB36-BC4F3F60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79057-3116-46E8-BCCA-5EE43948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AC2F2-45F2-47BE-B44E-29D4F00AE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BC887-1E2B-4820-A4B2-30A758415FB5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A7121F-D80C-4AC9-BF0D-0995E32BC500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E20AC-E7E7-401E-9126-3D73EDD22F2D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3F113-2325-4B7A-B7AA-9CEBF444B6D8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C13855-8684-4568-A7DB-A76D47811EC0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B99DD-B335-48AC-9B0C-EB847CC449FF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6A6B3-AEA2-41F6-B1F1-73A6402A1AE1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D75F4C-1D5F-451C-A147-93B69AFF18EF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38240-AED5-4D8C-BADD-614EE854CA6B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8F27E1-2565-4DF1-BA95-3DA47833C26B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Isosceles Triangle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24102-BCE9-4C87-A8A3-8F113776996D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E872B0-3ADE-4970-AB8B-D530B2B9AC1E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1E6E6F-0090-4824-A4D1-6936A0BFDB32}" type="datetime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1B25FA-BC40-4FBC-86A5-A49D5D1247AA}" type="slidenum">
              <a:rPr b="0" lang="en-US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B8C96E-3B60-422A-B19F-8ED0D50C76E7}" type="datetime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8AE20-E28C-4C24-88DC-DFEE0A2ED06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Celebrations!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Mr. Rush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olli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s your favorite holiday celebration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 do you celebrate this holiday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are 3 reasons this holiday is special to you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0-15 lines/ skip lin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lain your favorite holiday/ how you celebra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3 reasons this holiday is special to you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are we learning today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04028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 fontScale="90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b8cd"/>
                </a:solidFill>
                <a:latin typeface="Gill Sans MT"/>
              </a:rPr>
              <a:t>What are we doing today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4041720" cy="68580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b8cd"/>
                </a:solidFill>
                <a:latin typeface="Gill Sans MT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Your favorite holida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scuss your holiday/ reasons it is speci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ead Chapter 10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iscuss Sierra Leone’s holiday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llin’s Sierra Leo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enn Diagram-US/ Sierra Leon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648320" y="21337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lain how people of different cultures have different viewpoints/ similar viewpoin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Discuss: Your Holiday Celebration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s your favorite holiday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 do you celebrate this holiday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are 3 reasons this holiday is special to you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Read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Pages 69-72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Sierra Leone’s Celebration</a:t>
            </a:r>
            <a:br>
              <a:rPr sz="2900"/>
            </a:br>
            <a:r>
              <a:rPr b="0" lang="en-US" sz="2900" spc="-1" strike="noStrike">
                <a:solidFill>
                  <a:srgbClr val="464653"/>
                </a:solidFill>
                <a:latin typeface="Bookman Old Style"/>
              </a:rPr>
              <a:t>Chapter 10- pages 72 and 73</a:t>
            </a:r>
            <a:endParaRPr b="0" lang="en-US" sz="29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is Sierra Leone’s holiday celebration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ow does Sierra Leone celebrate this holiday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hat are 3 reasons this holiday is special to the people of Sierra Leon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0-15 lines/ skip lin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plain holiday celebration- write down pag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3 reasons this celebration is special to Ishmael Beah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elebrations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omparing US with Sierra Leon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raw A Venn Diagram on your pap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3 differences/ 3 similarities- Use Chapter 10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" name="Picture 7" descr=""/>
          <p:cNvPicPr/>
          <p:nvPr/>
        </p:nvPicPr>
        <p:blipFill>
          <a:blip r:embed="rId1"/>
          <a:stretch/>
        </p:blipFill>
        <p:spPr>
          <a:xfrm>
            <a:off x="2222640" y="3503520"/>
            <a:ext cx="345420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7:37:08Z</dcterms:created>
  <dc:creator>Craig Rush</dc:creator>
  <dc:description/>
  <dc:language>en-US</dc:language>
  <cp:lastModifiedBy>Craig Rush</cp:lastModifiedBy>
  <dcterms:modified xsi:type="dcterms:W3CDTF">2011-01-23T18:03:42Z</dcterms:modified>
  <cp:revision>2</cp:revision>
  <dc:subject/>
  <dc:title>Celebrations!</dc:title>
</cp:coreProperties>
</file>